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BA31-64D7-4627-8391-2B59BDB7F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B49D-D174-4581-A817-E1CB7716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EC01-62F9-424D-AABF-9C7434C84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966E-2D5F-45B0-BEED-2006BC2EF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03C4-E644-4EC0-BBEB-1CCE7079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4CDA-322B-470C-B34C-A3285A61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9C3A-D7C0-429E-B5F6-A41FD301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FB95-42C0-42BD-9875-AF8C47C9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6E8F-AF51-49D6-AB00-E9A0CF30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3182-D5C6-49B9-B8D9-96CECE00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A513-16AE-4474-B4F7-9A8F13A6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A9BB-0DBD-43B1-8BE8-E8DF1275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5FE2-39DD-4E14-8D0F-0416A8DB6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0" y="304920"/>
            <a:ext cx="5083200" cy="5181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480" y="2819520"/>
            <a:ext cx="792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 Black"/>
              </a:rPr>
              <a:t>MULTICULTURALIS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5486400"/>
            <a:ext cx="7696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zalina G. Gomez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Vega, Violeta A, Nelia Prieto G. Carreon, Myrna L. (2006) Social Dimensions of EducationManila: Lorimar Publishing Comp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181480" y="457200"/>
            <a:ext cx="3703680" cy="38098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457200"/>
            <a:ext cx="4724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Multiculturalism – is a policy that emphasizes the unique characteristics of different cultures, especially as they relate to one another in receiving 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cultural Edu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763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 emerging discipline whose aim is to create equal educational opportunities from diverse racial, ethnic, social class and cultural group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743200" y="3657600"/>
            <a:ext cx="403848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052800" cy="4190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880" y="228600"/>
            <a:ext cx="525780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ulticulturalism – is a public policy approach for managing cultural diversity in a multiethnic society, officially stressing mutual respect and tolerance for cultural differences within a country’s bord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mphasis: Unique characteristics of different cul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ts of Multicultur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graphic-descriptiv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occurs where the word multicultural refers to the existence of linguistically, culturally and ethnically diverse segments in the population of a society or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Ideological-normativ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onstitutes a specific focus towards the management and organization of governmental responses to ethnic d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335268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Programmatic-politic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refers to specific policies developed to respond and manage ethnic d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cultural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n emerging discipline whose aim is to create equal educational opportunities from diverse racial, ethnic, social class and cultural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30481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 progressive approach for transforming education that holistically critiques and addresses current shortcomings, failings and discriminator practices in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5867280"/>
            <a:ext cx="2971800" cy="58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9287600">
            <a:off x="1980720" y="4800240"/>
            <a:ext cx="76212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9287600">
            <a:off x="4571640" y="3047760"/>
            <a:ext cx="76212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4038480"/>
            <a:ext cx="2743200" cy="58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2286000"/>
            <a:ext cx="3200400" cy="58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72200" y="533520"/>
            <a:ext cx="2971800" cy="58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cial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9287600">
            <a:off x="6476760" y="1295280"/>
            <a:ext cx="76176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457200"/>
            <a:ext cx="3657600" cy="1556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roaches to Multicultural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304920"/>
            <a:ext cx="830592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mensions to Multicultural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81080"/>
            <a:ext cx="2710080" cy="1068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nt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3581280"/>
            <a:ext cx="2971800" cy="1556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nowledge Constructi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1981080"/>
            <a:ext cx="2590920" cy="1068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judice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48520" y="1905120"/>
            <a:ext cx="2590560" cy="1068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quity Pedag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1120" y="3505320"/>
            <a:ext cx="4419360" cy="1556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owering school culture and social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10:33:07Z</dcterms:created>
  <dc:creator>riza</dc:creator>
  <dc:description/>
  <dc:language>en-US</dc:language>
  <cp:lastModifiedBy>riza</cp:lastModifiedBy>
  <dcterms:modified xsi:type="dcterms:W3CDTF">2009-09-08T11:28:47Z</dcterms:modified>
  <cp:revision>14</cp:revision>
  <dc:subject/>
  <dc:title>MULTICULTURALISM</dc:title>
</cp:coreProperties>
</file>